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3C86-589E-47A3-A839-D0AF8AE4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92ED-7112-40CE-8B73-8EA8C793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9574-31EE-4176-A7FE-EA20FEFF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ED02-94FC-4895-AEC5-860637D9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56DC-081B-4D85-AD7B-3BC621B6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9381-3330-46B3-87D1-FB221881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0EC8-B9CC-4E08-8240-160A96FE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A3BE-E83C-4C62-B615-C170D089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A1B0-2CD6-4AB3-A72B-3DC75D89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5F66-5ACE-4EC0-BC13-D65AB041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2F2C-9D0B-4E9A-85A6-B028368B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DFC4-4C9F-4FD7-89B3-28FEC688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34BC-B768-4E0E-8FF0-DF97B11A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9FB5-671E-4A53-9FBB-DB23609B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5C1A-A22A-49F0-B20D-3A9F0BE4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EF07-5FD4-4690-BA5F-BB0DF0C3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CB80-735B-4051-83AC-7EE3CFF5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24FDD-F62C-4714-A78A-1AE44FEE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3CDC-B8BA-4619-AEAC-EBA9EA12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19C6-D831-4E7B-8612-3133A630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7D29-E8E2-4DB9-8CE7-16938315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77E8-2399-4DF8-B279-A3305D97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03A1E-638F-4F14-9BBA-638F8C52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908AA-B157-4843-A8D5-0F2EC01B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0F6E-EF28-435C-8660-B4D5AF2D0D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EA9B-5DA6-4315-BD6B-190F171123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ВЛИЯНИЕ НАРКОТИКОВ НА ЗДОРОВЬЕ ЧЕЛОВЕКА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626920" y="4292640"/>
            <a:ext cx="626580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Патракеева Татьяна 11а класс город Сыктывкар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отребление наркотиков опасно для жизни челове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ркоманы – это угроза не только для близких людей, но и для всего социального общества. Наркотики – это фальшивое представление о счастье. Наркотики разрушают семьи. Наркотики препятствуют творческому и духовному развит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ef6"/>
                </a:solidFill>
                <a:latin typeface="Arial"/>
              </a:rPr>
              <a:t>Список литературы: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Цель: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Исследовать какой вред наносит употребление наркотиков физическому здоровью человек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знать что такое нарко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ить какие виды наркотиков существую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яснить негативное влияние наркотиков на нервную систему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Что такое наркотики?</a:t>
            </a:r>
            <a:br>
              <a:rPr sz="2000"/>
            </a:b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Наркотик - это любое химическое соединение, которое воздействует на функционирование организма. Злоупотребление наркотиками - это их употребление любым неприемлемым с медицинской и социальной точек зрения образом или приемлемым, но неправильным. </a:t>
            </a:r>
            <a:br>
              <a:rPr sz="1800"/>
            </a:b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наркотики независимо от пути введения в организм в большей или меньшей степени обязательно повреждаю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14400" y="249228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рвную систему (в том числе головной мозг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ммунную систему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чень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рдц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егк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0" y="4869000"/>
            <a:ext cx="844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835280" y="112536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можно разделить на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539640" y="1700280"/>
            <a:ext cx="165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332000" y="1773360"/>
            <a:ext cx="107928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843280" y="1773360"/>
            <a:ext cx="71280" cy="129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64000" y="1700280"/>
            <a:ext cx="43344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1844640"/>
            <a:ext cx="71928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651640" y="1700280"/>
            <a:ext cx="79200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877080" y="1557360"/>
            <a:ext cx="1008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234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ири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8000" y="3500280"/>
            <a:ext cx="15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пресс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63640" y="3068640"/>
            <a:ext cx="17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соци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93080" y="2852640"/>
            <a:ext cx="1163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иои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651640" y="3141720"/>
            <a:ext cx="11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27640" y="321300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сиходел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653080" y="285264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сихостимуля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12320" y="2421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мпатог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Виды наркотиков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каин              Экстази      Геро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1542960" cy="21621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1447920" cy="21999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4140360" y="2349360"/>
            <a:ext cx="2076120" cy="19242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4"/>
          <a:stretch/>
        </p:blipFill>
        <p:spPr>
          <a:xfrm>
            <a:off x="6516720" y="2276640"/>
            <a:ext cx="1295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другие вещества, потребление которых легко вызывает у людей болезненное привыкание (кокаин, алкоголь, опиаты, амфетамин и др.), влияют на деятельность мозговой системы вознаграждения. Стимуляция этой системы порождает чувство удовлетворения и заставляет человека повторять те формы поведения, которые способствовали его достижени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fdef6"/>
                </a:solidFill>
                <a:latin typeface="Arial"/>
              </a:rPr>
              <a:t>СКАНОГРАММЫ МОЗГОВЫХ СТРУКТУР НАРКОМАНА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Прилежащее ядро                                                                                                                      - Миндалина                                                                                                                                        - Сублентикулярная часть миндал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Вентральная область покрыш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Префронтальная к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0581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Микрофотографии прилежащего ядра животных, находящихся под воздействием ненаркотических веществ: дендриты с обычным количеством шипиков – выростов, улавливающих нервные сигналы (</a:t>
            </a:r>
            <a:r>
              <a:rPr b="1" i="1" lang="ru-RU" sz="1600" spc="-1" strike="noStrike">
                <a:solidFill>
                  <a:srgbClr val="dfdef6"/>
                </a:solidFill>
                <a:latin typeface="Arial"/>
              </a:rPr>
              <a:t>слева и в центре</a:t>
            </a: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).</a:t>
            </a:r>
            <a:br>
              <a:rPr sz="1600"/>
            </a:b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У животных, пристрастившихся к кокаину, шипиков на дендритах гораздо больше (</a:t>
            </a:r>
            <a:r>
              <a:rPr b="1" i="1" lang="ru-RU" sz="1600" spc="-1" strike="noStrike">
                <a:solidFill>
                  <a:srgbClr val="dfdef6"/>
                </a:solidFill>
                <a:latin typeface="Arial"/>
              </a:rPr>
              <a:t>справа</a:t>
            </a:r>
            <a:r>
              <a:rPr b="1" lang="ru-RU" sz="1600" spc="-1" strike="noStrike">
                <a:solidFill>
                  <a:srgbClr val="dfdef6"/>
                </a:solidFill>
                <a:latin typeface="Arial"/>
              </a:rPr>
              <a:t>).</a:t>
            </a:r>
            <a:br>
              <a:rPr sz="1600"/>
            </a:br>
            <a:endParaRPr b="0" lang="en-US" sz="1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96400" y="2422440"/>
            <a:ext cx="77281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6193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5:28:26Z</dcterms:created>
  <dc:creator>User</dc:creator>
  <dc:description/>
  <dc:language>en-US</dc:language>
  <cp:lastModifiedBy>User</cp:lastModifiedBy>
  <dcterms:modified xsi:type="dcterms:W3CDTF">2009-11-10T14:37:58Z</dcterms:modified>
  <cp:revision>7</cp:revision>
  <dc:subject/>
  <dc:title>ВЛИЯНИЕ НАРКОТИКОВ НА ЗДОРОВЬЕ ЧЕЛОВЕКА</dc:title>
</cp:coreProperties>
</file>